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745-8D61-4AEE-832A-BB092DBD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ED4-F393-4D69-81C7-4A8D5D6F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17D-BB46-4500-BF72-2DF2A1B3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3C7-09C1-4365-BC0D-2865F2F8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C9A3-7F6B-459C-BDF2-D6010086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B7A9-1FEF-4175-8FA4-87ADAE0C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8AF3-3BEA-4367-A50F-90BDABCC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24A6-302D-4FFA-904C-033000FB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F66F-114C-42D2-9945-143A6080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693C-5F1A-4733-9051-FDF32EBB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E5E0-7770-45F6-A2C3-BE7EDF5E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72D-59B4-4364-BA99-20E6EDFA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5CB7-8F90-4001-A4D9-E4F1935E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DC19-10E5-4527-8A60-563CEED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7C7A-679D-499F-B439-25E0B1EB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8B83-B978-436B-8E5D-1BE77111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2F35-7E7A-4C53-8462-D160D43A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9E1-457C-45EF-B367-560CFD0E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61B-536A-401C-9415-48B540AC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6C9-32D6-452A-8EAD-5A4941FD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FE5-67B4-48E9-8937-B6D9FEC8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0DC-F929-43FE-AAE2-5B376959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791-25E3-4BB9-AE5A-4FBEF9DA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EAB-E83A-4216-A508-CD3D6137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1D35-D67D-4E77-AB57-22C65BFAE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1071-39FF-4F81-8185-7A533F9C5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7596360" cy="5122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21448800">
            <a:off x="2771640" y="5516280"/>
            <a:ext cx="410544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ig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140360" y="6283440"/>
            <a:ext cx="469584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635280" y="6093000"/>
            <a:ext cx="5200920" cy="765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705040" y="3544920"/>
            <a:ext cx="64389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ро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укингемско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ворц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284720" y="0"/>
            <a:ext cx="46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24720" cy="5550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08000" y="5950080"/>
            <a:ext cx="522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314600" cy="6453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 rot="19615800">
            <a:off x="5011560" y="4784400"/>
            <a:ext cx="427536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St. Paul's Cathedral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-61920" y="5589720"/>
            <a:ext cx="9250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66"/>
                </a:solidFill>
                <a:latin typeface="Comic Sans MS"/>
              </a:rPr>
              <a:t>Главные ворота Гайд Парка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360" y="105264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0" y="5300640"/>
            <a:ext cx="410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Hyde Park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50920" y="0"/>
            <a:ext cx="47512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Bank of England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95280" y="333360"/>
            <a:ext cx="532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tock Exchange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546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4508640"/>
            <a:ext cx="399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The Hous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of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Parliam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68360" y="404640"/>
            <a:ext cx="62643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24160"/>
            <a:ext cx="5219640" cy="363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00760" y="1197000"/>
            <a:ext cx="26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ahoma"/>
              </a:rPr>
              <a:t>Lond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720" y="4797360"/>
            <a:ext cx="34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ahoma"/>
              </a:rPr>
              <a:t>Univers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91436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3968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5015160" cy="5185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 rot="20899800">
            <a:off x="5003640" y="5013360"/>
            <a:ext cx="381636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ифите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561440" cy="4527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340000" y="5157720"/>
            <a:ext cx="47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wer Bri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132000" y="5950080"/>
            <a:ext cx="57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falgar Squar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132000" y="189000"/>
            <a:ext cx="57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8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falgar Squar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8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642924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670200">
            <a:off x="477360" y="4624200"/>
            <a:ext cx="640872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rafalgar Squ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5:59:40Z</dcterms:created>
  <dc:creator>Einshtein</dc:creator>
  <dc:description/>
  <dc:language>en-US</dc:language>
  <cp:lastModifiedBy>user</cp:lastModifiedBy>
  <dcterms:modified xsi:type="dcterms:W3CDTF">2007-12-06T14:46:42Z</dcterms:modified>
  <cp:revision>15</cp:revision>
  <dc:subject/>
  <dc:title>Слайд 1</dc:title>
</cp:coreProperties>
</file>